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ct" ContentType="image/x-pict"/>
  <Override PartName="/ppt/media/image9.pct" ContentType="image/x-pict"/>
  <Override PartName="/ppt/media/image1.jpeg" ContentType="image/jpeg"/>
  <Override PartName="/ppt/media/image3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3.jpeg" ContentType="image/jpeg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7C9-9EDE-4149-9B26-E914F0C3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14F-ACEE-40A9-9FB4-695735FF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A06-B6EE-4D10-8F46-72A92D03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F70-650A-40EB-9859-4EA5FA41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C132-2235-4B04-AD11-55B20444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E1DA-3D57-482E-BA2A-0E32463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F55F-2E38-4916-8481-11F6D08A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A09-6233-4276-9D13-D9AF3596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CA8A-3C5B-4092-948A-E5B9EF3B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498A-BC30-473F-8570-29F85E59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68AE-F374-4955-BE9E-16EC39E8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181-2672-432A-83B5-69790E32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F1DC-D1C6-4769-9DEB-247CF53E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9A8F-CBB7-4069-B733-84194A5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D99-8470-41D0-96C2-3F4E9F0C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EC19-0B8F-4327-AD63-BBD38C59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0AC3-4FC7-4053-94F7-D7291AB1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D92-D0FD-45ED-8041-CE032F90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CFC-EC65-41D4-823B-FA673BA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A2A-FE42-4C88-8D41-497D5263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314-AF7B-472F-B290-443DBCA6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FE9-4BD6-4336-833B-22CBF0D4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6FE-F7FD-4727-AD30-0602C8EE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DD1-A531-4FD3-ACAC-4A97CFA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87AD-5863-463F-A9DD-6B7186D24C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9D93-5E93-48E5-8869-9AA4E24EF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pct"/><Relationship Id="rId6" Type="http://schemas.openxmlformats.org/officeDocument/2006/relationships/image" Target="../media/image6.pct"/><Relationship Id="rId7" Type="http://schemas.openxmlformats.org/officeDocument/2006/relationships/image" Target="../media/image8.pct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thencyclopedia.com/Pa-Pr/Prometheus.html" TargetMode="External"/><Relationship Id="rId3" Type="http://schemas.openxmlformats.org/officeDocument/2006/relationships/hyperlink" Target="http://www.crossref-it.info/textguide/frankenstein/7/337" TargetMode="External"/><Relationship Id="rId4" Type="http://schemas.openxmlformats.org/officeDocument/2006/relationships/hyperlink" Target="http://en.wikipedia.org/wiki/Frankenstein#Modern_Prometheus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8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The Prometheus My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irMdITC TT-Medium"/>
              </a:rPr>
              <a:t>By Tanya Montal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restige Elite Std Bold"/>
              </a:rPr>
              <a:t>Promethe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Became great helpful to manki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Teaching them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Astronomy (Study a st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Navigation (follow the map trav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Medici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rker Felt"/>
              </a:rPr>
              <a:t>A number of other useful skil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1447920" cy="137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1447920" cy="925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7200" y="4419720"/>
            <a:ext cx="1447920" cy="110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57200" y="5486400"/>
            <a:ext cx="1447920" cy="11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57200" y="1295280"/>
            <a:ext cx="1447920" cy="865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457200" y="2286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282353" t="0" r="470588" b="752609"/>
          <a:stretch/>
        </p:blipFill>
        <p:spPr>
          <a:xfrm>
            <a:off x="3276720" y="2979720"/>
            <a:ext cx="4495680" cy="3051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racked"/>
              </a:rPr>
              <a:t>The man of </a:t>
            </a:r>
            <a:r>
              <a:rPr b="0" lang="en-US" sz="5400" spc="-1" strike="noStrike">
                <a:solidFill>
                  <a:srgbClr val="ff0000"/>
                </a:solidFill>
                <a:latin typeface="Cracked"/>
              </a:rPr>
              <a:t>fir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etheus stole the fire from heaven to bring to earth b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Ze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etheus played trick to Zeus and want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i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2760840"/>
            <a:ext cx="5257800" cy="4097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-87019" t="-86885" r="217308" b="217623"/>
          <a:stretch/>
        </p:blipFill>
        <p:spPr>
          <a:xfrm>
            <a:off x="5118120" y="-228600"/>
            <a:ext cx="4025880" cy="7086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 Black Condensed"/>
              </a:rPr>
              <a:t>Prometheus’s punishment!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Prometheus was bound to a rock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Everyday giant eagle ate his l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as renewed every n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 Bold Italic"/>
              </a:rPr>
              <a:t>Connect with Frankenstein’s mon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Prometheus of punishment and the fooliness of pandora in releasing evil and suffering into the world are a version of the fall and the end of innocence as told in genes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He stole fire by harnessing the power of lighting to animate his mon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Related to Frankenstein as Victor rebels against the law of nature and as result is punished by his cre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The titan in the Greek mythology of Prometheus parallel Victor Frankenste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Victor’s work by creating man by new means reflects the same innovative work of the titan in creating hum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Victor stole the secert of creation from god as the titan stole fire from heaven to give to him. Both Victor and Promethes are the punished by their actio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Victor’s punished, suffering the loss of these close to him and the dread of being killed himself by his creati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mythencyclopedia.com/Pa-Pr/Prometheus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://www.crossref-it.info/textguide/frankenstein/7/33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4"/>
              </a:rPr>
              <a:t>http://en.wikipedia.org/wiki/Frankenstein#Modern_Promethe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7:16:16Z</dcterms:created>
  <dc:creator>nps</dc:creator>
  <dc:description/>
  <dc:language>en-US</dc:language>
  <cp:lastModifiedBy>nps</cp:lastModifiedBy>
  <dcterms:modified xsi:type="dcterms:W3CDTF">2011-10-14T18:06:30Z</dcterms:modified>
  <cp:revision>9</cp:revision>
  <dc:subject/>
  <dc:title>The Prometheus Myth</dc:title>
</cp:coreProperties>
</file>